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4DA6-CC9C-4698-A82A-EBAB08A7A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6743-B716-44A5-A3A4-33F2B0A2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370-E774-476E-BB31-D772D8B4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E0B-56ED-4338-A474-D605BF74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A7C-5A84-48BF-A261-7C0586A2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ED0E-CE2D-4B63-A82A-6D87AE84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1E5B-62DF-4958-85C0-EFC78E5BF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E075-B78B-4792-B995-17FE784F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2122-9620-412F-ABAD-D001D435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3DB9-35E8-4729-B532-B1F1B59B7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E30-B395-4B68-AFB1-DA7F3B0F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0A9-BAC0-429E-819D-C1976E58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CF2-664D-4416-9858-038F42FD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05F-8912-412F-818D-2C78C921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5D97-2BED-410A-BE14-8AEF285F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838-EF91-4B9B-8573-B52C43CC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EC86-65A0-410E-8B2F-1DD3A4DB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48A-BB22-438A-867B-373064CC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7AAD-77B3-4909-9F28-058D3DE3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557-08F8-4086-8585-54F03112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A77A-763A-4DDB-B7CE-1F43AC27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35F-08F5-4624-800C-C9E48FE1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5CE-5C63-4014-9B32-F11319DF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0A9-AD27-4B1C-9A5E-21F818B2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039-8679-4EB2-B32B-223D9AF5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8CD-045F-4138-B573-92C2B45E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369-8FAC-4B37-B2FD-A1F36E57C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4BE-28B3-4C79-8F86-61EC7653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060-1C87-4D7E-BE29-28126AF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5B7-B3A1-4995-990C-19DD1055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19A-5F39-4C5B-9D93-FFB51B8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E236-A6A4-4B58-A78C-96582C2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F99-95AA-45CC-B818-C59BEC47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D08-6111-4320-8846-379702B8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8346-E74B-4D85-970E-A7B7BFCF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EC5-9E41-48DB-A666-C1EED57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6FC-C8A5-437E-B3D6-E908082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CD3-7A09-4A49-84A1-8FB60B4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804-29E6-4C3E-BDF5-2959FCD1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A592-5B87-42CB-95F2-169102B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571-2988-4662-9405-69ED9BA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62D-D262-4E9F-AA20-CD2D7EC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98F-CC3C-418B-97E4-E531780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3DD-9946-41E1-9D38-3ED7BE3D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457-34F7-4FCA-834D-DBBD3A1B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C32-BCCB-4D6D-A35E-91B73FB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3A5-3B99-4115-B61B-962B43C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953-776E-47D4-B783-5F3168B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6B2-6874-4F51-BC50-63EEA7C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E61-78FE-4C6D-A86A-C7ED1FE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870-7649-4899-AF97-87C9C1D0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56A-E9A2-4E8C-B7C2-F5BCAAF98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D9B-2BD8-447A-B021-72664F48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8000" y="265248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            </a:t>
            </a: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Complete</a:t>
            </a:r>
            <a:r>
              <a:rPr b="0" lang="en-US" sz="4400" spc="-1" strike="noStrike">
                <a:solidFill>
                  <a:srgbClr val="003366"/>
                </a:solidFill>
                <a:latin typeface="Bernard MT Condensed"/>
              </a:rPr>
              <a:t> and                    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Bernard MT Condensed"/>
              </a:rPr>
              <a:t>                 </a:t>
            </a:r>
            <a:r>
              <a:rPr b="0" lang="en-US" sz="69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6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0574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Let’s look at the differen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2024_a_bugs"/>
          <p:cNvPicPr/>
          <p:nvPr/>
        </p:nvPicPr>
        <p:blipFill>
          <a:blip r:embed="rId1"/>
          <a:stretch/>
        </p:blipFill>
        <p:spPr>
          <a:xfrm>
            <a:off x="838080" y="1616040"/>
            <a:ext cx="2590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4 STAGES OF</a:t>
            </a:r>
            <a:br>
              <a:rPr sz="5200"/>
            </a:b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COMPLETE METAMORPHOSIS</a:t>
            </a:r>
            <a:endParaRPr b="0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960" y="2215800"/>
            <a:ext cx="80308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flycycle"/>
          <p:cNvPicPr/>
          <p:nvPr/>
        </p:nvPicPr>
        <p:blipFill>
          <a:blip r:embed="rId1"/>
          <a:stretch/>
        </p:blipFill>
        <p:spPr>
          <a:xfrm>
            <a:off x="3827520" y="2397240"/>
            <a:ext cx="3639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33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99"/>
                </a:solidFill>
                <a:latin typeface="Arial"/>
              </a:rPr>
              <a:t>EG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emale lays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flycycle"/>
          <p:cNvPicPr/>
          <p:nvPr/>
        </p:nvPicPr>
        <p:blipFill>
          <a:blip r:embed="rId1"/>
          <a:stretch/>
        </p:blipFill>
        <p:spPr>
          <a:xfrm>
            <a:off x="6019920" y="533520"/>
            <a:ext cx="2630520" cy="22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7772400" y="609480"/>
          <a:ext cx="990720" cy="12193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LARV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arva hatch from the eggs. They do not look like adult insects. They usually have a worm-like shap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terpillars, maggots, and grubs are all just the larval stages of insects. Larvae molt their skin several times and they grow slightly larg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lycycle"/>
          <p:cNvPicPr/>
          <p:nvPr/>
        </p:nvPicPr>
        <p:blipFill>
          <a:blip r:embed="rId1"/>
          <a:stretch/>
        </p:blipFill>
        <p:spPr>
          <a:xfrm>
            <a:off x="6208560" y="228600"/>
            <a:ext cx="2554560" cy="21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7086600" y="1600200"/>
          <a:ext cx="1600200" cy="6858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PUP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 make cocoons around themselv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 don't eat while they're inside their coco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develop into an adult shape with wings, legs, internal organ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change takes anywhere from 4 days to many mont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flycycle"/>
          <p:cNvPicPr/>
          <p:nvPr/>
        </p:nvPicPr>
        <p:blipFill>
          <a:blip r:embed="rId1"/>
          <a:stretch/>
        </p:blipFill>
        <p:spPr>
          <a:xfrm>
            <a:off x="6208560" y="223920"/>
            <a:ext cx="240192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6095880" y="1066680"/>
          <a:ext cx="1067040" cy="68580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6699"/>
                </a:solidFill>
                <a:latin typeface="Arial"/>
              </a:rPr>
              <a:t>ADUL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ide the cocoon, the larvae change into adults. After a period of time, the adult breaks out of the coco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flycycle"/>
          <p:cNvPicPr/>
          <p:nvPr/>
        </p:nvPicPr>
        <p:blipFill>
          <a:blip r:embed="rId1"/>
          <a:stretch/>
        </p:blipFill>
        <p:spPr>
          <a:xfrm>
            <a:off x="6361200" y="152280"/>
            <a:ext cx="2401920" cy="20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6705720" y="152280"/>
          <a:ext cx="1371600" cy="9907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ABOUT FROG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rogs undergo a different type of COMPLETE METAMORPHOSI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rom the egg emerges a tadpole, which lives in the water, breathes with gills, and has a tai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As the tadpole grows, lungs and legs form, and the gills and tail are absorbed into the bod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Verdana"/>
              </a:rPr>
              <a:t>Finally, the animal leaves the water and lives mainly on land, as a fro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4382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ernard MT Condensed"/>
              </a:rPr>
              <a:t>Let’s see what we know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t’s take Profess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now-It-All’s Qui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d see what we ha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rne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ullwinkle_professor"/>
          <p:cNvPicPr/>
          <p:nvPr/>
        </p:nvPicPr>
        <p:blipFill>
          <a:blip r:embed="rId1"/>
          <a:stretch/>
        </p:blipFill>
        <p:spPr>
          <a:xfrm>
            <a:off x="6060960" y="2133720"/>
            <a:ext cx="18637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1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at are the two types of metamorphosi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2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many stages are there in incomplete metamorpho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3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me the stages of incomplete metamorphosi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y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50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200" spc="-1" strike="noStrike">
                <a:solidFill>
                  <a:srgbClr val="003366"/>
                </a:solidFill>
                <a:latin typeface="Bernard MT Condensed"/>
              </a:rPr>
              <a:t>What is metamorphosis?</a:t>
            </a:r>
            <a:endParaRPr b="0" lang="en-US" sz="6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osis refers to the way that certain organisms develop, grow, and change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osis actually means "change"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4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w many stages are there in complete metamorpho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swer: 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3366"/>
                </a:solidFill>
                <a:latin typeface="Arial"/>
              </a:rPr>
              <a:t>QUESTION #5</a:t>
            </a:r>
            <a:endParaRPr b="0" lang="en-US" sz="6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Name the stages in complete metamorpho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9a00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flycycle"/>
          <p:cNvPicPr/>
          <p:nvPr/>
        </p:nvPicPr>
        <p:blipFill>
          <a:blip r:embed="rId1"/>
          <a:stretch/>
        </p:blipFill>
        <p:spPr>
          <a:xfrm>
            <a:off x="2286000" y="1676520"/>
            <a:ext cx="4038480" cy="3467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6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cycle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7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cycle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NCM_DRG"/>
          <p:cNvPicPr/>
          <p:nvPr/>
        </p:nvPicPr>
        <p:blipFill>
          <a:blip r:embed="rId1"/>
          <a:stretch/>
        </p:blipFill>
        <p:spPr>
          <a:xfrm>
            <a:off x="2666880" y="1895400"/>
            <a:ext cx="3200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8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47920" y="5181480"/>
            <a:ext cx="6705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each stage of the complete metamorphosis of the butterfl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metamrph"/>
          <p:cNvPicPr/>
          <p:nvPr/>
        </p:nvPicPr>
        <p:blipFill>
          <a:blip r:embed="rId1"/>
          <a:stretch/>
        </p:blipFill>
        <p:spPr>
          <a:xfrm>
            <a:off x="2362320" y="1828800"/>
            <a:ext cx="365760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43434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0481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2438280" y="3276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110400" y="1868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548680" y="2325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869080" y="3773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QUESTION #9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447920" y="5181480"/>
            <a:ext cx="6705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the lifecycle of the frog as complete or incomplete metamorphosi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0481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1828440"/>
            <a:ext cx="7967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YOU’VE JUST COMPLETED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ROFESSOR KNOW-IT-ALL’S QUIZ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3" descr="CHEER2"/>
          <p:cNvPicPr/>
          <p:nvPr/>
        </p:nvPicPr>
        <p:blipFill>
          <a:blip r:embed="rId1"/>
          <a:stretch/>
        </p:blipFill>
        <p:spPr>
          <a:xfrm>
            <a:off x="2286000" y="2967120"/>
            <a:ext cx="2868480" cy="22701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5791320" y="3048120"/>
            <a:ext cx="274320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How di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you do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14320"/>
            <a:ext cx="8163000" cy="109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ernard MT Condensed"/>
              </a:rPr>
              <a:t>Two Types of Metamorphosi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50560" y="2447640"/>
            <a:ext cx="779292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COMPLETE METAMORP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as THREE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LETE METAMORP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FOUR s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et’s take a closer loo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t each stage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3 STAGES OF</a:t>
            </a:r>
            <a:br>
              <a:rPr sz="5200"/>
            </a:br>
            <a:r>
              <a:rPr b="0" lang="en-US" sz="5200" spc="-1" strike="noStrike">
                <a:solidFill>
                  <a:srgbClr val="003366"/>
                </a:solidFill>
                <a:latin typeface="Bernard MT Condensed"/>
              </a:rPr>
              <a:t>INCOMPLETE METAMORPHOSIS</a:t>
            </a:r>
            <a:endParaRPr b="0" lang="en-US" sz="5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ym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NCM_DRG"/>
          <p:cNvPicPr/>
          <p:nvPr/>
        </p:nvPicPr>
        <p:blipFill>
          <a:blip r:embed="rId1"/>
          <a:stretch/>
        </p:blipFill>
        <p:spPr>
          <a:xfrm>
            <a:off x="3733920" y="2228760"/>
            <a:ext cx="411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EGG</a:t>
            </a:r>
            <a:r>
              <a:rPr b="0" lang="en-US" sz="5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 female insect lays eggs. These eggs are often covered by an egg case which protects the eggs and holds them togeth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NCM_DRG"/>
          <p:cNvPicPr/>
          <p:nvPr/>
        </p:nvPicPr>
        <p:blipFill>
          <a:blip r:embed="rId1"/>
          <a:stretch/>
        </p:blipFill>
        <p:spPr>
          <a:xfrm>
            <a:off x="6019920" y="247680"/>
            <a:ext cx="228600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6553080" y="1828800"/>
          <a:ext cx="1067040" cy="76212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2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99"/>
                </a:solidFill>
                <a:latin typeface="Arial"/>
              </a:rPr>
              <a:t>NYMP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ggs hatch into nymph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mphs looks like small adults, but usually don't have w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 nymphs eat the same food that the adult insect 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mphs shed or molt their exoskeletons (outer casings made up of a hard substance called chitin) and replace them with larger ones several times as they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ymphs molt 4-8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NCM_DRG"/>
          <p:cNvPicPr/>
          <p:nvPr/>
        </p:nvPicPr>
        <p:blipFill>
          <a:blip r:embed="rId1"/>
          <a:stretch/>
        </p:blipFill>
        <p:spPr>
          <a:xfrm>
            <a:off x="6553080" y="304920"/>
            <a:ext cx="2286000" cy="21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6553080" y="304920"/>
          <a:ext cx="1524240" cy="15238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Arial"/>
              </a:rPr>
              <a:t>ADUL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insects stop molting when they reach their adult size. By this time, they have also grown wing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INCM_DRG"/>
          <p:cNvPicPr/>
          <p:nvPr/>
        </p:nvPicPr>
        <p:blipFill>
          <a:blip r:embed="rId1"/>
          <a:stretch/>
        </p:blipFill>
        <p:spPr>
          <a:xfrm>
            <a:off x="6553080" y="174600"/>
            <a:ext cx="2362320" cy="22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7848720" y="990720"/>
          <a:ext cx="1066680" cy="91440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a3123"/>
                      </a:solidFill>
                    </a:lnL>
                    <a:lnR w="38160">
                      <a:solidFill>
                        <a:srgbClr val="9a3123"/>
                      </a:solidFill>
                    </a:lnR>
                    <a:lnT w="38160">
                      <a:solidFill>
                        <a:srgbClr val="9a3123"/>
                      </a:solidFill>
                    </a:lnT>
                    <a:lnB w="38160">
                      <a:solidFill>
                        <a:srgbClr val="9a312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Bernard MT Condensed"/>
              </a:rPr>
              <a:t>COMPLETE METAMORPHOSIS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et’s take a closer loo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t each stage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23:35:27Z</dcterms:created>
  <dc:creator>Lebanon Special School District</dc:creator>
  <dc:description/>
  <dc:language>en-US</dc:language>
  <cp:lastModifiedBy>lsanchez4</cp:lastModifiedBy>
  <dcterms:modified xsi:type="dcterms:W3CDTF">2011-05-04T13:48:27Z</dcterms:modified>
  <cp:revision>36</cp:revision>
  <dc:subject/>
  <dc:title>            Complete and                                       Incomplete Metamorphosis</dc:title>
</cp:coreProperties>
</file>